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512-951A-42E8-B32F-40A13774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B8B-30D8-41DB-B2F3-40292B18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44C-923E-44CA-9A85-759D1032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AD8-EBBF-4CAA-BC00-7BC804AF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728-AFAB-468D-AD17-6E182E9F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12A-8E50-43E4-9A28-22E46143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610-F75A-4603-8F11-69395B1B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F517-169D-43D3-8170-2726DC5E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54F-E5ED-40EA-8639-28499CDA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613-B897-4BC9-A9A4-9745F7E2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048-638B-4D33-8C6C-0A675311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C2C-EE44-441C-897C-FA88A275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A49D-DA58-4C99-9E17-BB82D3534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25.xml"/><Relationship Id="rId8" Type="http://schemas.openxmlformats.org/officeDocument/2006/relationships/slide" Target="slide25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7.xml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slide" Target="slide23.xml"/><Relationship Id="rId17" Type="http://schemas.openxmlformats.org/officeDocument/2006/relationships/slide" Target="slide23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1.xml"/><Relationship Id="rId24" Type="http://schemas.openxmlformats.org/officeDocument/2006/relationships/slide" Target="slide11.xml"/><Relationship Id="rId25" Type="http://schemas.openxmlformats.org/officeDocument/2006/relationships/slide" Target="slide21.xml"/><Relationship Id="rId26" Type="http://schemas.openxmlformats.org/officeDocument/2006/relationships/slide" Target="slide21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27.xml"/><Relationship Id="rId30" Type="http://schemas.openxmlformats.org/officeDocument/2006/relationships/slide" Target="slide27.xml"/><Relationship Id="rId31" Type="http://schemas.openxmlformats.org/officeDocument/2006/relationships/slide" Target="slide31.xml"/><Relationship Id="rId32" Type="http://schemas.openxmlformats.org/officeDocument/2006/relationships/slide" Target="slide31.xml"/><Relationship Id="rId33" Type="http://schemas.openxmlformats.org/officeDocument/2006/relationships/slide" Target="slide33.xml"/><Relationship Id="rId34" Type="http://schemas.openxmlformats.org/officeDocument/2006/relationships/slide" Target="slide33.xml"/><Relationship Id="rId35" Type="http://schemas.openxmlformats.org/officeDocument/2006/relationships/slide" Target="slide29.xml"/><Relationship Id="rId36" Type="http://schemas.openxmlformats.org/officeDocument/2006/relationships/slide" Target="slide29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9144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s for the g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will need a pencil and paper to keep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next screen,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the Question and decide on your ans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 button.  If you’re right, add your points in the            to your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              button to go back to try another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y?  Click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go the the Jeopardy boa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 the “Esc” button on the keyboard to end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267080" y="3048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4343400" y="3962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23752" y="3837"/>
                </a:moveTo>
                <a:lnTo>
                  <a:pt x="26328" y="6448"/>
                </a:ln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lnTo>
                  <a:pt x="30715" y="10800"/>
                </a:lnTo>
                <a:lnTo>
                  <a:pt x="29061" y="10800"/>
                </a:lnTo>
                <a:lnTo>
                  <a:pt x="29061" y="17989"/>
                </a:lnTo>
                <a:lnTo>
                  <a:pt x="18443" y="17989"/>
                </a:lnTo>
                <a:lnTo>
                  <a:pt x="18443" y="10800"/>
                </a:lnTo>
                <a:lnTo>
                  <a:pt x="16789" y="10800"/>
                </a:lnTo>
                <a:close/>
              </a:path>
              <a:path fill="darkenLess" w="47504" h="21600">
                <a:moveTo>
                  <a:pt x="26328" y="6448"/>
                </a:moveTo>
                <a:lnTo>
                  <a:pt x="26328" y="4707"/>
                </a:lnTo>
                <a:lnTo>
                  <a:pt x="28104" y="4707"/>
                </a:lnTo>
                <a:lnTo>
                  <a:pt x="28104" y="8224"/>
                </a:lnTo>
                <a:close/>
              </a:path>
              <a:path fill="darkenLess" w="47504" h="21600">
                <a:moveTo>
                  <a:pt x="22829" y="14299"/>
                </a:moveTo>
                <a:lnTo>
                  <a:pt x="24674" y="14299"/>
                </a:lnTo>
                <a:lnTo>
                  <a:pt x="24674" y="17989"/>
                </a:lnTo>
                <a:lnTo>
                  <a:pt x="29061" y="17989"/>
                </a:lnTo>
                <a:lnTo>
                  <a:pt x="29061" y="10800"/>
                </a:lnTo>
                <a:lnTo>
                  <a:pt x="18443" y="10800"/>
                </a:lnTo>
                <a:lnTo>
                  <a:pt x="18443" y="17989"/>
                </a:lnTo>
                <a:lnTo>
                  <a:pt x="22829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352680"/>
            <a:ext cx="761760" cy="53352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7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7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8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8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9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3808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83808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Q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0504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Q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0504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Q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3" action="ppaction://hlinksldjump"/>
          </p:cNvPr>
          <p:cNvSpPr/>
          <p:nvPr/>
        </p:nvSpPr>
        <p:spPr>
          <a:xfrm>
            <a:off x="83808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Q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8" action="ppaction://hlinksldjump"/>
          </p:cNvPr>
          <p:cNvSpPr/>
          <p:nvPr/>
        </p:nvSpPr>
        <p:spPr>
          <a:xfrm>
            <a:off x="83808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0504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Q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504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Q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Q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38960" y="15238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Q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38960" y="4038480"/>
            <a:ext cx="1866960" cy="125748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480"/>
              <a:gd name="textAreaBottom" fmla="*/ 1176120 h 1257480"/>
            </a:gdLst>
            <a:ahLst/>
            <a:rect l="textAreaLeft" t="textAreaTop" r="textAreaRight" b="textAreaBottom"/>
            <a:pathLst>
              <a:path w="32066" h="21600">
                <a:moveTo>
                  <a:pt x="0" y="0"/>
                </a:moveTo>
                <a:lnTo>
                  <a:pt x="32066" y="0"/>
                </a:lnTo>
                <a:lnTo>
                  <a:pt x="32066" y="21600"/>
                </a:lnTo>
                <a:lnTo>
                  <a:pt x="0" y="21600"/>
                </a:lnTo>
                <a:close/>
              </a:path>
              <a:path fill="lightenLess" w="32066" h="21600">
                <a:moveTo>
                  <a:pt x="0" y="0"/>
                </a:moveTo>
                <a:lnTo>
                  <a:pt x="32066" y="0"/>
                </a:lnTo>
                <a:lnTo>
                  <a:pt x="30666" y="1400"/>
                </a:lnTo>
                <a:lnTo>
                  <a:pt x="1400" y="1400"/>
                </a:lnTo>
                <a:close/>
              </a:path>
              <a:path fill="darken" w="32066" h="21600">
                <a:moveTo>
                  <a:pt x="32066" y="0"/>
                </a:moveTo>
                <a:lnTo>
                  <a:pt x="32066" y="21600"/>
                </a:lnTo>
                <a:lnTo>
                  <a:pt x="30666" y="20200"/>
                </a:lnTo>
                <a:lnTo>
                  <a:pt x="30666" y="1400"/>
                </a:lnTo>
                <a:close/>
              </a:path>
              <a:path fill="darkenLess" w="32066" h="21600">
                <a:moveTo>
                  <a:pt x="32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66" y="20200"/>
                </a:lnTo>
                <a:close/>
              </a:path>
              <a:path fill="lighten" w="32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Q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2" action="ppaction://hlinksldjump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38960" y="52959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Q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4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38960" y="2781360"/>
            <a:ext cx="1866960" cy="1257120"/>
          </a:xfrm>
          <a:custGeom>
            <a:avLst/>
            <a:gdLst>
              <a:gd name="textAreaLeft" fmla="*/ 81360 w 1866960"/>
              <a:gd name="textAreaRight" fmla="*/ 1785600 w 1866960"/>
              <a:gd name="textAreaTop" fmla="*/ 81360 h 1257120"/>
              <a:gd name="textAreaBottom" fmla="*/ 1175760 h 1257120"/>
            </a:gdLst>
            <a:ahLst/>
            <a:rect l="textAreaLeft" t="textAreaTop" r="textAreaRight" b="textAreaBottom"/>
            <a:pathLst>
              <a:path w="32075" h="21600">
                <a:moveTo>
                  <a:pt x="0" y="0"/>
                </a:moveTo>
                <a:lnTo>
                  <a:pt x="32075" y="0"/>
                </a:lnTo>
                <a:lnTo>
                  <a:pt x="32075" y="21600"/>
                </a:lnTo>
                <a:lnTo>
                  <a:pt x="0" y="21600"/>
                </a:lnTo>
                <a:close/>
              </a:path>
              <a:path fill="lightenLess" w="32075" h="21600">
                <a:moveTo>
                  <a:pt x="0" y="0"/>
                </a:moveTo>
                <a:lnTo>
                  <a:pt x="32075" y="0"/>
                </a:lnTo>
                <a:lnTo>
                  <a:pt x="30675" y="1400"/>
                </a:lnTo>
                <a:lnTo>
                  <a:pt x="1400" y="1400"/>
                </a:lnTo>
                <a:close/>
              </a:path>
              <a:path fill="darken" w="32075" h="21600">
                <a:moveTo>
                  <a:pt x="32075" y="0"/>
                </a:moveTo>
                <a:lnTo>
                  <a:pt x="32075" y="21600"/>
                </a:lnTo>
                <a:lnTo>
                  <a:pt x="30675" y="20200"/>
                </a:lnTo>
                <a:lnTo>
                  <a:pt x="30675" y="1400"/>
                </a:lnTo>
                <a:close/>
              </a:path>
              <a:path fill="darkenLess" w="32075" h="21600">
                <a:moveTo>
                  <a:pt x="32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75" y="20200"/>
                </a:lnTo>
                <a:close/>
              </a:path>
              <a:path fill="lighten" w="32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Q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hlinkClick r:id="rId36" action="ppaction://hlinksldjump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049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Elephant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6553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Alma Row (5/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28600"/>
            <a:ext cx="1600200" cy="816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Question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point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990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egor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9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0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0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71500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5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685800" y="56386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1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5800" y="571500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6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85800" y="563868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838080"/>
            <a:ext cx="7238880" cy="51818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1752480"/>
            <a:ext cx="5562360" cy="3429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Game Ov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4572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657600"/>
            <a:ext cx="3429000" cy="25146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5146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66680"/>
            <a:ext cx="3657600" cy="18288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838080"/>
            <a:ext cx="380988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472428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609480"/>
            <a:ext cx="4190760" cy="289584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2362320"/>
            <a:ext cx="4724640" cy="312408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3733920" cy="2286000"/>
          </a:xfrm>
          <a:prstGeom prst="sun">
            <a:avLst>
              <a:gd name="adj" fmla="val 46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ank you for playing Jeopardy.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mail Mrs. Row with any questions or comments!</a:t>
            </a:r>
            <a:br>
              <a:rPr sz="36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Check with your teacher first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457200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53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0602" h="21600">
                <a:moveTo>
                  <a:pt x="16406" y="14281"/>
                </a:moveTo>
                <a:lnTo>
                  <a:pt x="16406" y="12323"/>
                </a:lnTo>
                <a:cubicBezTo>
                  <a:pt x="16406" y="11496"/>
                  <a:pt x="16737" y="10800"/>
                  <a:pt x="17338" y="10800"/>
                </a:cubicBezTo>
                <a:cubicBezTo>
                  <a:pt x="18469" y="10800"/>
                  <a:pt x="19366" y="9434"/>
                  <a:pt x="19366" y="7849"/>
                </a:cubicBezTo>
                <a:cubicBezTo>
                  <a:pt x="19366" y="5534"/>
                  <a:pt x="17512" y="3794"/>
                  <a:pt x="15301" y="3794"/>
                </a:cubicBezTo>
                <a:cubicBezTo>
                  <a:pt x="13090" y="3794"/>
                  <a:pt x="11419" y="5534"/>
                  <a:pt x="11419" y="7849"/>
                </a:cubicBezTo>
                <a:lnTo>
                  <a:pt x="13273" y="7849"/>
                </a:lnTo>
                <a:cubicBezTo>
                  <a:pt x="13273" y="6709"/>
                  <a:pt x="14196" y="5821"/>
                  <a:pt x="15301" y="5821"/>
                </a:cubicBezTo>
                <a:cubicBezTo>
                  <a:pt x="16406" y="5821"/>
                  <a:pt x="17338" y="6709"/>
                  <a:pt x="17338" y="7849"/>
                </a:cubicBezTo>
                <a:cubicBezTo>
                  <a:pt x="17338" y="8589"/>
                  <a:pt x="16868" y="9320"/>
                  <a:pt x="16406" y="9320"/>
                </a:cubicBezTo>
                <a:cubicBezTo>
                  <a:pt x="15301" y="9320"/>
                  <a:pt x="14196" y="10800"/>
                  <a:pt x="14196" y="12323"/>
                </a:cubicBezTo>
                <a:lnTo>
                  <a:pt x="14196" y="14281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1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2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Answer 3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85800" y="5638680"/>
            <a:ext cx="1676520" cy="914400"/>
          </a:xfrm>
          <a:custGeom>
            <a:avLst/>
            <a:gdLst>
              <a:gd name="textAreaLeft" fmla="*/ 59040 w 1676520"/>
              <a:gd name="textAreaRight" fmla="*/ 1617480 w 1676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96" h="21600">
                <a:moveTo>
                  <a:pt x="0" y="0"/>
                </a:moveTo>
                <a:lnTo>
                  <a:pt x="39596" y="0"/>
                </a:lnTo>
                <a:lnTo>
                  <a:pt x="39596" y="21600"/>
                </a:lnTo>
                <a:lnTo>
                  <a:pt x="0" y="21600"/>
                </a:lnTo>
                <a:close/>
              </a:path>
              <a:path fill="lightenLess" w="39596" h="21600">
                <a:moveTo>
                  <a:pt x="0" y="0"/>
                </a:moveTo>
                <a:lnTo>
                  <a:pt x="39596" y="0"/>
                </a:lnTo>
                <a:lnTo>
                  <a:pt x="38196" y="1400"/>
                </a:lnTo>
                <a:lnTo>
                  <a:pt x="1400" y="1400"/>
                </a:lnTo>
                <a:close/>
              </a:path>
              <a:path fill="darken" w="39596" h="21600">
                <a:moveTo>
                  <a:pt x="39596" y="0"/>
                </a:moveTo>
                <a:lnTo>
                  <a:pt x="39596" y="21600"/>
                </a:lnTo>
                <a:lnTo>
                  <a:pt x="38196" y="20200"/>
                </a:lnTo>
                <a:lnTo>
                  <a:pt x="38196" y="1400"/>
                </a:lnTo>
                <a:close/>
              </a:path>
              <a:path fill="darkenLess" w="39596" h="21600">
                <a:moveTo>
                  <a:pt x="3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6" y="20200"/>
                </a:lnTo>
                <a:close/>
              </a:path>
              <a:path fill="lighten" w="3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k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ion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Question 4 he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73152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34" h="21600">
                <a:moveTo>
                  <a:pt x="20617" y="3837"/>
                </a:moveTo>
                <a:lnTo>
                  <a:pt x="23193" y="6448"/>
                </a:ln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lnTo>
                  <a:pt x="27580" y="10800"/>
                </a:lnTo>
                <a:lnTo>
                  <a:pt x="25926" y="10800"/>
                </a:lnTo>
                <a:lnTo>
                  <a:pt x="25926" y="17989"/>
                </a:lnTo>
                <a:lnTo>
                  <a:pt x="15308" y="17989"/>
                </a:lnTo>
                <a:lnTo>
                  <a:pt x="15308" y="10800"/>
                </a:lnTo>
                <a:lnTo>
                  <a:pt x="13654" y="10800"/>
                </a:lnTo>
                <a:close/>
              </a:path>
              <a:path fill="darkenLess" w="41234" h="21600">
                <a:moveTo>
                  <a:pt x="23193" y="6448"/>
                </a:moveTo>
                <a:lnTo>
                  <a:pt x="23193" y="4707"/>
                </a:lnTo>
                <a:lnTo>
                  <a:pt x="24969" y="4707"/>
                </a:lnTo>
                <a:lnTo>
                  <a:pt x="24969" y="8224"/>
                </a:lnTo>
                <a:close/>
              </a:path>
              <a:path fill="darkenLess" w="41234" h="21600">
                <a:moveTo>
                  <a:pt x="19694" y="14299"/>
                </a:moveTo>
                <a:lnTo>
                  <a:pt x="21540" y="14299"/>
                </a:lnTo>
                <a:lnTo>
                  <a:pt x="21540" y="17989"/>
                </a:lnTo>
                <a:lnTo>
                  <a:pt x="25926" y="17989"/>
                </a:lnTo>
                <a:lnTo>
                  <a:pt x="25926" y="10800"/>
                </a:lnTo>
                <a:lnTo>
                  <a:pt x="15308" y="10800"/>
                </a:lnTo>
                <a:lnTo>
                  <a:pt x="15308" y="17989"/>
                </a:lnTo>
                <a:lnTo>
                  <a:pt x="19694" y="1798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7150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swer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457200"/>
            <a:ext cx="1447920" cy="1371600"/>
          </a:xfrm>
          <a:prstGeom prst="star5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5T19:43:30Z</dcterms:created>
  <dc:creator>Alma Row</dc:creator>
  <dc:description/>
  <dc:language>en-US</dc:language>
  <cp:lastModifiedBy>Alma Row</cp:lastModifiedBy>
  <dcterms:modified xsi:type="dcterms:W3CDTF">2004-09-25T16:49:07Z</dcterms:modified>
  <cp:revision>15</cp:revision>
  <dc:subject/>
  <dc:title>PowerPoint Presentation</dc:title>
</cp:coreProperties>
</file>